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70A-8726-463F-8582-CBAC3351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622-181D-4E8E-BDFF-F899408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482-C882-41F9-99AB-2368C39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52B-5D78-4801-B194-2E3DE6EC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BF9-0DD5-42D4-9889-DDE234B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E64-6A50-4BDD-B635-4EA27EC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9EE-F3EB-4A24-887E-D7203A6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403-30CD-4FFA-B632-7B1DD9C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13B-937C-454A-B30A-1789D60B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2AD-3E66-4D55-850A-BFBE36D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349-BED7-48C6-A943-E4242F8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7C4-9217-424D-90D7-AE9768B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DDE-3732-49D6-AFC9-26870D2E8D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Form an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ype or style of poem, e.g. lyric, narrative or epic poem, dramatic monologue, sonnet, ballad, ode, e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pe and organisation of a poem: layout, stanza length, line length, metre, rhyme scheme, other structural poetic devices, e.g. enjambement, caesu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with no recognisable form, structure or rhyme pattern; often mirrors natural speech rhy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yric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arrative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ramatic mono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rt poem of regular structure expressing the poet’s emo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poem which tells a story, often of an episode taken from history or my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poem in which an imagined or real speaker addresses a silent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nn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ll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of 14 lines using variable formal rhyme schemes, but often ending in a rhyming 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ng-like poem narrating a story in short regular stan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ric poem, often addressed to a particular 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of serious reflection, often a lament for the d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ctet/oct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st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qua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8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484280"/>
            <a:ext cx="20890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et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nt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ex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7280" y="1484280"/>
            <a:ext cx="6059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 division of a line of verse into measures or ‘feet’ (combinations of stressed and unstressed syllables) governing the rhythm/pace of the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es of verse consisting of different numbers of ‘feet’: 2, 3, 4, 5 and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yme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jamb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es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ing ideas close together or in opposition for contrasting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ttern formed by the end-rhymes in lines of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inuing a sentence into the next line or stanza without pausing at the end of a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using a sentence or idea mid-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18T12:03:52Z</dcterms:modified>
  <cp:revision>67</cp:revision>
  <dc:subject/>
  <dc:title>La Belle Dame Sans Merci</dc:title>
</cp:coreProperties>
</file>